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108-2F97-4DF5-B447-9724599D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081-D981-461C-9F4E-F196781B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5CE-97ED-4601-B46E-F057146C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DAB-7605-4FA4-8D79-CD1EC881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DAEC-2614-40B6-A950-FC6B45C1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25BF-D3B0-417F-B3A4-C9C73F5F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D029-99FB-4FD3-870E-41DFA9BC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040C-3C1E-49EB-BFE9-19CE4B25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99A5-8F51-4B10-B8EE-9B4145E3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78D2-6094-4536-8F21-0FC95B34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9E7D-B0EC-42B5-A9E1-F4B70CA6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FF5-F2AC-47A8-BA9B-CFA7D168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783B-7CD6-4BF1-B455-01F00C7C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F9A6-C9CC-4C4E-A0A7-FA022D76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DAF5-7406-4950-9F83-257B9065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CC00-58B1-4693-8C0D-2C8B39D2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4ED1-6A0B-46EC-9F33-E5C58217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3441-907B-4102-80B2-8D5F23BF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5D69-34A2-422A-A2B9-0A72E237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FC011-2B3E-46FA-97E6-7382F859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90D3-BB25-47AC-9843-47E5A7B4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1E10-2564-4B5C-BA8C-5B3AE5E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58E-F91D-4037-A7B2-44987A3D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FF2E-F241-4D03-8A0C-7091C37D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0A1E-7551-48EB-AA52-16113E5F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6FF0-EBE1-417B-BF9A-26D15B9E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4C34-3B50-450D-BC1F-867A857A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D76E-AF99-4A0C-8326-C6BDF3A5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DE2F-88AA-411D-8C88-6B94C757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8D49-2D78-4C8C-8F54-8EB5E80D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CC8FB-2C8D-4AD5-A79A-D8A94642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96DB9-E638-44E1-A9A5-8715D37C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93E6-1B79-48CE-8FE7-AC4E514A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323-A6A7-44E7-A842-3C706EB5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8BD11-D48B-4360-BC7E-6FC3C21E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B643-8033-48BC-AA29-234B65C7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A5BD0-408B-4A44-BDF1-00A67FBF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C2C74-190D-4C8A-ABB6-B2C9BB98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FC04-DC0E-4EBE-9D68-91D3B624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0E69-0E76-4845-A727-F06ED2A7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3C2E5-6EE5-4EDF-A2A4-5A6307F1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FED9-917F-42FE-BCC2-6F879455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99593-2E68-4F0E-BFA8-2B5B4037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632AD-8363-40B7-8B9A-AA2E58CA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4C2-1384-41AF-90BF-E2B073ED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C9F7C-CB00-44D5-BF4E-87E36420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0B9CF-9E3C-4CF1-B147-DF0BAFE6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2C2AD-4BF7-4621-9E65-92D2C1CA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652AB-FB93-4D49-BB25-C101F0D3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165E9-C14F-49ED-8BBF-2AB9527A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096A6-FD78-4C3D-B733-0D23840D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7F15-DC0F-4CE6-B2CF-413655B3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BA2B8-53E1-4169-ABB8-3E2D039A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70D3D-2F3B-4152-9F12-7EE2A1D5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AC43B-D367-4984-AC06-665132BA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C3D-2078-40EF-8D7A-68BF5D33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F165D-5079-4EC5-84CA-71BD3674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55F2D-6749-4A0F-B601-F75A89AD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755FB-CEF4-4F6C-AB0A-2A61B777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C154B-929B-4E5C-8CA2-12E35E55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7C48E-A11D-4A75-8155-8C65F32F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C79D5-B8E6-43D7-832C-56B9E556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61A12-BC1F-452F-860C-7A37D4CD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3700C-08D7-414E-8E1A-1B03632B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C64E0-5D03-49BB-A5D6-3419F17F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875B-4E1C-4C14-B47E-6190D72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30F-BC48-4CE5-950D-D963BB69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0C61A-7D11-4285-9FA4-28F9EFD1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37417-2587-4560-AF45-7190C047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052EA-7EDB-4055-B068-3C3BD39F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2A090-01CB-4F2D-AC72-090BF096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7907-88CA-4D32-A5B9-F18ADB5C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599D8-13FC-47DD-BCCA-C7A30DB8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EE7E3-E6D6-4699-B4F8-7751B518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24DBA-F765-4A1A-ABE5-23A64787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4620B-43F5-4ECD-BDEA-D3E66A69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BF5A2-7549-4DCB-8B59-B993330F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E9D-1916-439A-8815-9F99D43B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3BD8C-7F80-4A8A-9139-F2348325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2C77A-510F-4847-8424-E5A826BE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40B0C-58FA-4688-870E-E1CB72AE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0469D-DA53-45B5-86D9-C227C985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0C92A-B3B4-4E7E-95E7-2D8D4EF0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2B7B9-2E7A-4CD6-8E6B-30A05820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40414-34C7-4517-BF17-2930298A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7342D-F23A-4EF1-8705-50B723AD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2CA8E-62F0-48C6-B258-BFF9DB85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F7A98-1346-472F-9F1A-3434F2ED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449-0FAF-40D9-8D69-960CAFB3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FACB6-EDED-4E54-9E86-AEEF0205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B9FB0-355B-4BF2-8180-70EB4F20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8D989-7468-4579-BD2E-8A11987B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C42FE-BD58-4753-8C54-E1149E76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47FE2-E41B-4335-9C8E-6809D2DB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BA4A7-8720-4068-BBF8-FA58AC80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E41EB-9301-4CD8-952F-2EB32157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CE9B-797C-4E3D-AE3D-49CDF198C6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BCAE-0AD4-4FCB-BEAB-DC0E63F7F7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50BC-11AF-4203-955F-B4F22A2A1D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8F04-874A-4D8D-99D8-55FEB55F7C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FF75-9537-4E4A-8AEE-BF38B33493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E334-8DE7-4082-A9D2-B1AC194260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2CEA-0B4E-4247-A90C-8AA70BC37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AF52-2C7B-43BD-812B-8039B18BF4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ul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447920" y="1752480"/>
            <a:ext cx="72388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Food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Clothing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Shelter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Safety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447920" y="1752480"/>
            <a:ext cx="72388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Friendship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elong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Lov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elf-esteem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xcitemen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elf Express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1023840" indent="-9144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609120" y="1371240"/>
            <a:ext cx="800100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ge 7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3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4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5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6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7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8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9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371600" y="1371240"/>
            <a:ext cx="7238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ge 7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1. foo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. self-express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3. foo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4. energ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5. knowledge, food, etc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6. Self express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7. safe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8. belong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9. belonging, self-express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914400" y="762120"/>
          <a:ext cx="7238880" cy="518616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758160"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terial 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Physical Objec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-material 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Language, beliefs, ideas, et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944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Straight Connector 5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Straight Connector 7"/>
          <p:cNvSpPr/>
          <p:nvPr/>
        </p:nvSpPr>
        <p:spPr>
          <a:xfrm>
            <a:off x="4267080" y="685800"/>
            <a:ext cx="76320" cy="480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ulture is the way people live together. It includes response to physical environment, history, economics, politics, and social life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Anthropologists are scientists who study human characteristics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ultural diversity refers to the variety and the differences between cultures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6840" y="1444320"/>
            <a:ext cx="48769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elief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munity organiz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-operative wor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lklo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oolmak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isi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33760" y="1444680"/>
            <a:ext cx="33526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airsty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spita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using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ok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inship group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rri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altim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>
              <a:buClr>
                <a:srgbClr val="2da2bf"/>
              </a:buClr>
              <a:buSzPct val="68000"/>
              <a:buFont typeface="Lucida Sans Unicode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ye colo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ating with chopstick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Values and tradition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ong finger nail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ngernail polish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chool rule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 keen sense of hearing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 or 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ye color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ating with chopstick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Values and tradition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ong finger nail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ngernail polish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chool rule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52480" indent="-7430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 keen sense of hearing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Meeting a person’s needs and wants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00:23:23Z</dcterms:created>
  <dc:creator>ladmin</dc:creator>
  <dc:description/>
  <dc:language>en-US</dc:language>
  <cp:lastModifiedBy>Terry, Sean J. (ASD-E)</cp:lastModifiedBy>
  <dcterms:modified xsi:type="dcterms:W3CDTF">2015-11-18T02:51:27Z</dcterms:modified>
  <cp:revision>11</cp:revision>
  <dc:subject/>
  <dc:title>PowerPoint Presentation</dc:title>
</cp:coreProperties>
</file>